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130-3C50-40AB-826F-CCA86BD5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F881-98AF-49CD-9BB2-840453A2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2E0-F200-4EF8-97F5-8DB7563D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62A-4006-4289-A190-5C3F11BE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B00-D6DC-43E7-873A-6A6C6441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EA9-52B4-44EA-8ECF-D188199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A87-8FD1-43C2-B095-C96542F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8B5-55C6-4DED-92F3-08705CA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CB4-9370-47DA-B8B5-817B033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AAC-B1BE-419E-B2EA-66EAF9B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E69-67DE-4242-8186-EEF25CE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26E-18C1-48EA-818A-45D1E2D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BC7-DD5E-4CDF-8BD8-AC434E8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76C-8B6B-42B5-B4DB-5AB33AA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C561-86EC-4702-8641-D44F179B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 y yo me gustan los gato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9588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Si ustedes tienen mascotas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Photo on 2011-10-21 at 13.53 #2.jpg"/>
          <p:cNvPicPr/>
          <p:nvPr/>
        </p:nvPicPr>
        <p:blipFill>
          <a:blip r:embed="rId1"/>
          <a:stretch/>
        </p:blipFill>
        <p:spPr>
          <a:xfrm>
            <a:off x="438120" y="457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1371600" y="10666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371600" y="380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s bien porque Ya me voy Adió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1371600" y="24382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371600" y="1752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User</cp:lastModifiedBy>
  <dcterms:modified xsi:type="dcterms:W3CDTF">2013-01-02T14:59:52Z</dcterms:modified>
  <cp:revision>111</cp:revision>
  <dc:subject/>
  <dc:title>Profile</dc:title>
</cp:coreProperties>
</file>